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1ED-98FD-456F-ABF8-6D8D1532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77E-D91C-4D7C-995B-35678F57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D8E-CCD6-483D-9884-96D2602A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F87-7153-4EC8-8D75-C62509C2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F74-E97C-4679-ADF0-D4077F9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E85-E346-4CBE-8FCA-7FA44C77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444-0369-4F23-90D1-69AD41C8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EF7-C5EE-4899-9B05-FA5C247F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6D2-76E6-4F99-964F-FC95239B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E22-E15C-4457-9BE8-EE028ED7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695-BD1A-4AE2-B34F-C6E818F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8C5-3638-42BB-BBB2-2914B6E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3944-09E1-4AC5-A098-C9E079B0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6 Hviezdy sa skryli za mra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viezdy sa skryli za mra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vieti ani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pasiteľ náš, sám len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ťažký zápas začí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čelo krvou zros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ú strašnú n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 nebdie s n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priatelia aj blízko s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všetci spia tam zomdl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útok zloby vrcho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omoc Otec prichádz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tmavú anjel ožiar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silu nachádz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aránok Boží nevin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znáša bremä našich vín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ás tu zvádza krutý b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a nás trpí Boží Sy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3:19Z</dcterms:modified>
  <cp:revision>32</cp:revision>
  <dc:subject/>
  <dc:title>Je veľký náš Pán, on slávy je Kráľ Nech do všetkých strán  spev vrúcnych znie chvál.</dc:title>
</cp:coreProperties>
</file>